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B2D9-D969-49CD-8A20-2B3C6BFB7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D321-DC3C-4177-BEBC-0317933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19F-66A2-4DAC-BF51-D1683BFE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D6EB-0A4B-4386-8880-0D2CCDB7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EB66-6E41-46AA-8474-0FF95BBA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4807-5BDB-4256-81C7-EF6A65A0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5F4-9893-4D8D-9C89-74AB1D3F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D38-07AE-409A-A1D4-DF70D84D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295-5A27-4264-9425-1A0E8BC7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4BF9-AD43-4545-B98F-09790EE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C60-E584-4DA5-8461-C05F4120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389-8D1D-4170-BEC8-DE566D0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49EE-2624-41DB-998A-7D851AC144F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2997360"/>
            <a:ext cx="6400800" cy="201600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ساد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وحدود الاستفادة من النسب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67C3-04A2-413C-A4AE-8E61A6AA56A4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879480"/>
            <a:ext cx="7772760" cy="691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ثمر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2421000"/>
            <a:ext cx="369720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رارات شراء أو بيع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ربحية والسي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2000" y="3747960"/>
            <a:ext cx="2736720" cy="20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ارباح المحققة (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EPS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ي الرب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2200" y="3718080"/>
            <a:ext cx="2521080" cy="20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عائد الحقيقي لل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بلغ الموز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ة السوق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3716280"/>
            <a:ext cx="2592360" cy="208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صيب السهم من 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وز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اسه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53000" y="5084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55720" y="49705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373-C2A3-4402-B0DF-DE76B2C6AAA9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809640"/>
            <a:ext cx="7772760" cy="78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ائنون والبنو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514600"/>
            <a:ext cx="44654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adfbe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مساعدة على منح الائتمان من عدم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3930480"/>
            <a:ext cx="7488360" cy="2235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سب القروض الى حقوق المساهم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ي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ن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ب التدا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خز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ل دوران المدين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C6E-F785-4759-B00C-29ED91249EFB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985680"/>
            <a:ext cx="7772760" cy="716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دارة المنشأ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2416320"/>
            <a:ext cx="7775280" cy="367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نصيب السهم من الأرب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العائد على حقوق الملك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قروض الى حقوق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رأس ال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لعائد على الاص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06B-0E95-44C5-8627-B63E887A54BA}" type="slidenum">
              <a:t>4</a:t>
            </a:fld>
          </a:p>
        </p:txBody>
      </p: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1275840"/>
            <a:ext cx="7772760" cy="715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احص الضري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2900520"/>
            <a:ext cx="8001000" cy="23288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سترشاد بالنسب المالية للمساعدة على الاطمئنان الى صحة 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ف</a:t>
            </a: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ص الرواتب ومقارنتها باجمالي الدخل ومقارنتها مع السنة السابق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4EA7-EFD2-415B-999B-8ED02D8785B0}" type="slidenum">
              <a:t>5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1956960"/>
            <a:ext cx="7772760" cy="740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429000"/>
            <a:ext cx="784836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اعدة في ابداء الرأ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600-C7E4-4510-B795-BD60C4C36289}" type="slidenum">
              <a:t>6</a:t>
            </a:fld>
          </a:p>
        </p:txBody>
      </p:sp>
    </p:spTree>
  </p:cSld>
  <p:transition>
    <p:random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1915920"/>
            <a:ext cx="7772760" cy="72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خيرا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3500280"/>
            <a:ext cx="777528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استفادة من النسب المالية في الت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ؤ بنجاح أو ف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00B-E6DD-462F-A655-931F89B15D98}" type="slidenum">
              <a:t>7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f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907920"/>
            <a:ext cx="7772400" cy="1081080"/>
          </a:xfrm>
          <a:prstGeom prst="downArrowCallout">
            <a:avLst>
              <a:gd name="adj1" fmla="val -177836"/>
              <a:gd name="adj2" fmla="val 179737"/>
              <a:gd name="adj3" fmla="val 16667"/>
              <a:gd name="adj4" fmla="val 6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استفادة من التحليل المال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4360" y="2205000"/>
            <a:ext cx="7775280" cy="374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سياسات و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بيئ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حجم المشرو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صناع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طبيعة النسب المالية وتركيبته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حلل المالي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 عوامل تتعلق بالمستفيدين من التحليل الم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260280"/>
            <a:ext cx="46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سادس: الاستفادة وحدود الاستفادة من النسب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BC1D-8314-43E4-9083-B70976701A48}" type="slidenum">
              <a:t>8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8T01:57:27Z</dcterms:modified>
  <cp:revision>28</cp:revision>
  <dc:subject/>
  <dc:title>التحليل المالي والائتماني</dc:title>
</cp:coreProperties>
</file>